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A9EE-5959-48CB-9B42-F4EA112E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EBF-4D37-46A5-BE3C-3E21F568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9D6-72BB-4A36-AA32-9D1AF1A2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3E9-D8B4-4B55-B8BB-98D9916D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059-6B61-413C-A60F-1CCCED73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374-0092-417F-9C93-91DD4996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111-1B6D-4DCA-ADAD-8275B0CA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617-DF1B-48D7-A2C5-93B0C795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A566-EEC7-4CFC-9194-187993ED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C73-3D78-45D1-82F9-9A4C99CF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2A4-55CE-406E-BC22-D61813A1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BCE-ED8B-4878-BBCC-8580D40C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BDC4-E8A8-409A-B5CB-A8764B7B5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2.xml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6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en.wikipedia.org/wiki/Tapas" TargetMode="External"/><Relationship Id="rId3" Type="http://schemas.openxmlformats.org/officeDocument/2006/relationships/image" Target="../media/image1.wmf"/><Relationship Id="rId4" Type="http://schemas.openxmlformats.org/officeDocument/2006/relationships/hyperlink" Target="http://en.wikipedia.org/wiki/Roman_Empire" TargetMode="External"/><Relationship Id="rId5" Type="http://schemas.openxmlformats.org/officeDocument/2006/relationships/hyperlink" Target="http://en.wikipedia.org/wiki/Roman_Empire" TargetMode="External"/><Relationship Id="rId6" Type="http://schemas.openxmlformats.org/officeDocument/2006/relationships/hyperlink" Target="http://en.wikipedia.org/wiki/Moors" TargetMode="External"/><Relationship Id="rId7" Type="http://schemas.openxmlformats.org/officeDocument/2006/relationships/hyperlink" Target="http://en.wikipedia.org/wiki/Moors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radley Hand ITC"/>
              </a:rPr>
              <a:t>Port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g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ció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g. 3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 Prueb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g. 6 –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tos y vocabulario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g. 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g. 1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Más Práctica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209680" cy="1469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8080" y="3124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quer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2363760" cy="154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62720" y="3276720"/>
            <a:ext cx="182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qu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601992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o Manch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2362320" cy="1668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86760" y="60199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món Ser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621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4100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4100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609480" y="4038480"/>
            <a:ext cx="2286000" cy="1609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5800" y="4114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140320" y="5856120"/>
            <a:ext cx="929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51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24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10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707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5280" y="152388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¡Se acaba la presentación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88040" y="5932440"/>
            <a:ext cx="929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¡</a:t>
            </a:r>
            <a:r>
              <a:rPr b="1" lang="en-US" sz="60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TAPA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629400" cy="4394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270080" cy="77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270080" cy="77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543800" y="5943600"/>
            <a:ext cx="1270080" cy="77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52280" y="5943600"/>
            <a:ext cx="12700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La Histor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idea de ‘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p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tiene varios orí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ver en las tapas las influencias de lo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omano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lo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o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 los nuevos alimentos traídos del Nuevo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¿Qué es una Tap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pas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 la palabra que se usa en España para aperitivos, o “appetiz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sTap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importantes porque definen una parte de la cultura social y culinaria del 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2361960" cy="1568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724280" y="4114800"/>
            <a:ext cx="34419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Bradley Hand ITC"/>
              </a:rPr>
              <a:t>¿Cuándo se comen las tap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España se cena entre las 9 y las 11 de la n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onces, muchas veces, los españoles </a:t>
            </a:r>
            <a:r>
              <a:rPr b="0" i="1" lang="en-US" sz="2800" spc="-1" strike="noStrike">
                <a:solidFill>
                  <a:srgbClr val="bbe0e3"/>
                </a:solidFill>
                <a:latin typeface="Arial"/>
              </a:rPr>
              <a:t>van de tap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así pueden comer un poco entre el almuerzo y la 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se sirve el almuerzo entre las 2 y las 4 de la tarde, es también normal comerlas los fines de semana durante el día, antes del almuerzo para poder soci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radley Hand ITC"/>
              </a:rPr>
              <a:t>Prueba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Cuándo se las comen?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2895480"/>
            <a:ext cx="3043080" cy="685800"/>
          </a:xfrm>
          <a:custGeom>
            <a:avLst/>
            <a:gdLst>
              <a:gd name="textAreaLeft" fmla="*/ 44280 w 3043080"/>
              <a:gd name="textAreaRight" fmla="*/ 2998800 w 3043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5806" h="21600">
                <a:moveTo>
                  <a:pt x="0" y="0"/>
                </a:moveTo>
                <a:lnTo>
                  <a:pt x="95806" y="0"/>
                </a:lnTo>
                <a:lnTo>
                  <a:pt x="95806" y="21600"/>
                </a:lnTo>
                <a:lnTo>
                  <a:pt x="0" y="21600"/>
                </a:lnTo>
                <a:close/>
              </a:path>
              <a:path fill="lightenLess" w="95806" h="21600">
                <a:moveTo>
                  <a:pt x="0" y="0"/>
                </a:moveTo>
                <a:lnTo>
                  <a:pt x="95806" y="0"/>
                </a:lnTo>
                <a:lnTo>
                  <a:pt x="94406" y="1400"/>
                </a:lnTo>
                <a:lnTo>
                  <a:pt x="1400" y="1400"/>
                </a:lnTo>
                <a:close/>
              </a:path>
              <a:path fill="darken" w="95806" h="21600">
                <a:moveTo>
                  <a:pt x="95806" y="0"/>
                </a:moveTo>
                <a:lnTo>
                  <a:pt x="95806" y="21600"/>
                </a:lnTo>
                <a:lnTo>
                  <a:pt x="94406" y="20200"/>
                </a:lnTo>
                <a:lnTo>
                  <a:pt x="94406" y="1400"/>
                </a:lnTo>
                <a:close/>
              </a:path>
              <a:path fill="darkenLess" w="95806" h="21600">
                <a:moveTo>
                  <a:pt x="95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406" y="20200"/>
                </a:lnTo>
                <a:close/>
              </a:path>
              <a:path fill="lighten" w="95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 desayu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038480"/>
            <a:ext cx="3043080" cy="685800"/>
          </a:xfrm>
          <a:custGeom>
            <a:avLst/>
            <a:gdLst>
              <a:gd name="textAreaLeft" fmla="*/ 44280 w 3043080"/>
              <a:gd name="textAreaRight" fmla="*/ 2998800 w 3043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5806" h="21600">
                <a:moveTo>
                  <a:pt x="0" y="0"/>
                </a:moveTo>
                <a:lnTo>
                  <a:pt x="95806" y="0"/>
                </a:lnTo>
                <a:lnTo>
                  <a:pt x="95806" y="21600"/>
                </a:lnTo>
                <a:lnTo>
                  <a:pt x="0" y="21600"/>
                </a:lnTo>
                <a:close/>
              </a:path>
              <a:path fill="lightenLess" w="95806" h="21600">
                <a:moveTo>
                  <a:pt x="0" y="0"/>
                </a:moveTo>
                <a:lnTo>
                  <a:pt x="95806" y="0"/>
                </a:lnTo>
                <a:lnTo>
                  <a:pt x="94406" y="1400"/>
                </a:lnTo>
                <a:lnTo>
                  <a:pt x="1400" y="1400"/>
                </a:lnTo>
                <a:close/>
              </a:path>
              <a:path fill="darken" w="95806" h="21600">
                <a:moveTo>
                  <a:pt x="95806" y="0"/>
                </a:moveTo>
                <a:lnTo>
                  <a:pt x="95806" y="21600"/>
                </a:lnTo>
                <a:lnTo>
                  <a:pt x="94406" y="20200"/>
                </a:lnTo>
                <a:lnTo>
                  <a:pt x="94406" y="1400"/>
                </a:lnTo>
                <a:close/>
              </a:path>
              <a:path fill="darkenLess" w="95806" h="21600">
                <a:moveTo>
                  <a:pt x="95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406" y="20200"/>
                </a:lnTo>
                <a:close/>
              </a:path>
              <a:path fill="lighten" w="95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el po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5181480"/>
            <a:ext cx="3047760" cy="685800"/>
          </a:xfrm>
          <a:custGeom>
            <a:avLst/>
            <a:gdLst>
              <a:gd name="textAreaLeft" fmla="*/ 44280 w 3047760"/>
              <a:gd name="textAreaRight" fmla="*/ 3003480 w 3047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5953" h="21600">
                <a:moveTo>
                  <a:pt x="0" y="0"/>
                </a:moveTo>
                <a:lnTo>
                  <a:pt x="95953" y="0"/>
                </a:lnTo>
                <a:lnTo>
                  <a:pt x="95953" y="21600"/>
                </a:lnTo>
                <a:lnTo>
                  <a:pt x="0" y="21600"/>
                </a:lnTo>
                <a:close/>
              </a:path>
              <a:path fill="lightenLess" w="95953" h="21600">
                <a:moveTo>
                  <a:pt x="0" y="0"/>
                </a:moveTo>
                <a:lnTo>
                  <a:pt x="95953" y="0"/>
                </a:lnTo>
                <a:lnTo>
                  <a:pt x="94553" y="1400"/>
                </a:lnTo>
                <a:lnTo>
                  <a:pt x="1400" y="1400"/>
                </a:lnTo>
                <a:close/>
              </a:path>
              <a:path fill="darken" w="95953" h="21600">
                <a:moveTo>
                  <a:pt x="95953" y="0"/>
                </a:moveTo>
                <a:lnTo>
                  <a:pt x="95953" y="21600"/>
                </a:lnTo>
                <a:lnTo>
                  <a:pt x="94553" y="20200"/>
                </a:lnTo>
                <a:lnTo>
                  <a:pt x="94553" y="1400"/>
                </a:lnTo>
                <a:close/>
              </a:path>
              <a:path fill="darkenLess" w="95953" h="21600">
                <a:moveTo>
                  <a:pt x="95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553" y="20200"/>
                </a:lnTo>
                <a:close/>
              </a:path>
              <a:path fill="lighten" w="95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 el almuerzo y l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048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4114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re el almuerzo y la ce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Prueba 2</a:t>
            </a: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 una Tapa?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4419720"/>
            <a:ext cx="2359080" cy="685800"/>
          </a:xfrm>
          <a:custGeom>
            <a:avLst/>
            <a:gdLst>
              <a:gd name="textAreaLeft" fmla="*/ 44280 w 2359080"/>
              <a:gd name="textAreaRight" fmla="*/ 2314800 w 2359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274" h="21600">
                <a:moveTo>
                  <a:pt x="0" y="0"/>
                </a:moveTo>
                <a:lnTo>
                  <a:pt x="74274" y="0"/>
                </a:lnTo>
                <a:lnTo>
                  <a:pt x="74274" y="21600"/>
                </a:lnTo>
                <a:lnTo>
                  <a:pt x="0" y="21600"/>
                </a:lnTo>
                <a:close/>
              </a:path>
              <a:path fill="lightenLess" w="74274" h="21600">
                <a:moveTo>
                  <a:pt x="0" y="0"/>
                </a:moveTo>
                <a:lnTo>
                  <a:pt x="74274" y="0"/>
                </a:lnTo>
                <a:lnTo>
                  <a:pt x="72874" y="1400"/>
                </a:lnTo>
                <a:lnTo>
                  <a:pt x="1400" y="1400"/>
                </a:lnTo>
                <a:close/>
              </a:path>
              <a:path fill="darken" w="74274" h="21600">
                <a:moveTo>
                  <a:pt x="74274" y="0"/>
                </a:moveTo>
                <a:lnTo>
                  <a:pt x="74274" y="21600"/>
                </a:lnTo>
                <a:lnTo>
                  <a:pt x="72874" y="20200"/>
                </a:lnTo>
                <a:lnTo>
                  <a:pt x="72874" y="1400"/>
                </a:lnTo>
                <a:close/>
              </a:path>
              <a:path fill="darkenLess" w="74274" h="21600">
                <a:moveTo>
                  <a:pt x="74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874" y="20200"/>
                </a:lnTo>
                <a:close/>
              </a:path>
              <a:path fill="lighten" w="74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per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486400"/>
            <a:ext cx="2359080" cy="685800"/>
          </a:xfrm>
          <a:custGeom>
            <a:avLst/>
            <a:gdLst>
              <a:gd name="textAreaLeft" fmla="*/ 44280 w 2359080"/>
              <a:gd name="textAreaRight" fmla="*/ 2314800 w 2359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274" h="21600">
                <a:moveTo>
                  <a:pt x="0" y="0"/>
                </a:moveTo>
                <a:lnTo>
                  <a:pt x="74274" y="0"/>
                </a:lnTo>
                <a:lnTo>
                  <a:pt x="74274" y="21600"/>
                </a:lnTo>
                <a:lnTo>
                  <a:pt x="0" y="21600"/>
                </a:lnTo>
                <a:close/>
              </a:path>
              <a:path fill="lightenLess" w="74274" h="21600">
                <a:moveTo>
                  <a:pt x="0" y="0"/>
                </a:moveTo>
                <a:lnTo>
                  <a:pt x="74274" y="0"/>
                </a:lnTo>
                <a:lnTo>
                  <a:pt x="72874" y="1400"/>
                </a:lnTo>
                <a:lnTo>
                  <a:pt x="1400" y="1400"/>
                </a:lnTo>
                <a:close/>
              </a:path>
              <a:path fill="darken" w="74274" h="21600">
                <a:moveTo>
                  <a:pt x="74274" y="0"/>
                </a:moveTo>
                <a:lnTo>
                  <a:pt x="74274" y="21600"/>
                </a:lnTo>
                <a:lnTo>
                  <a:pt x="72874" y="20200"/>
                </a:lnTo>
                <a:lnTo>
                  <a:pt x="72874" y="1400"/>
                </a:lnTo>
                <a:close/>
              </a:path>
              <a:path fill="darkenLess" w="74274" h="21600">
                <a:moveTo>
                  <a:pt x="74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874" y="20200"/>
                </a:lnTo>
                <a:close/>
              </a:path>
              <a:path fill="lighten" w="74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ba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3505320"/>
            <a:ext cx="2359080" cy="685800"/>
          </a:xfrm>
          <a:custGeom>
            <a:avLst/>
            <a:gdLst>
              <a:gd name="textAreaLeft" fmla="*/ 44280 w 2359080"/>
              <a:gd name="textAreaRight" fmla="*/ 2314800 w 2359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274" h="21600">
                <a:moveTo>
                  <a:pt x="0" y="0"/>
                </a:moveTo>
                <a:lnTo>
                  <a:pt x="74274" y="0"/>
                </a:lnTo>
                <a:lnTo>
                  <a:pt x="74274" y="21600"/>
                </a:lnTo>
                <a:lnTo>
                  <a:pt x="0" y="21600"/>
                </a:lnTo>
                <a:close/>
              </a:path>
              <a:path fill="lightenLess" w="74274" h="21600">
                <a:moveTo>
                  <a:pt x="0" y="0"/>
                </a:moveTo>
                <a:lnTo>
                  <a:pt x="74274" y="0"/>
                </a:lnTo>
                <a:lnTo>
                  <a:pt x="72874" y="1400"/>
                </a:lnTo>
                <a:lnTo>
                  <a:pt x="1400" y="1400"/>
                </a:lnTo>
                <a:close/>
              </a:path>
              <a:path fill="darken" w="74274" h="21600">
                <a:moveTo>
                  <a:pt x="74274" y="0"/>
                </a:moveTo>
                <a:lnTo>
                  <a:pt x="74274" y="21600"/>
                </a:lnTo>
                <a:lnTo>
                  <a:pt x="72874" y="20200"/>
                </a:lnTo>
                <a:lnTo>
                  <a:pt x="72874" y="1400"/>
                </a:lnTo>
                <a:close/>
              </a:path>
              <a:path fill="darkenLess" w="74274" h="21600">
                <a:moveTo>
                  <a:pt x="74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874" y="20200"/>
                </a:lnTo>
                <a:close/>
              </a:path>
              <a:path fill="lighten" w="74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ibro roman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46680" y="352728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4080" y="1957320"/>
            <a:ext cx="30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peritivo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radley Hand ITC"/>
              </a:rPr>
              <a:t>Prueba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áles grupos tuvieron una influencia en las tapas? 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971800"/>
            <a:ext cx="2970000" cy="685800"/>
          </a:xfrm>
          <a:custGeom>
            <a:avLst/>
            <a:gdLst>
              <a:gd name="textAreaLeft" fmla="*/ 44280 w 2970000"/>
              <a:gd name="textAreaRight" fmla="*/ 2925720 w 2970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3506" h="21600">
                <a:moveTo>
                  <a:pt x="0" y="0"/>
                </a:moveTo>
                <a:lnTo>
                  <a:pt x="93506" y="0"/>
                </a:lnTo>
                <a:lnTo>
                  <a:pt x="93506" y="21600"/>
                </a:lnTo>
                <a:lnTo>
                  <a:pt x="0" y="21600"/>
                </a:lnTo>
                <a:close/>
              </a:path>
              <a:path fill="lightenLess" w="93506" h="21600">
                <a:moveTo>
                  <a:pt x="0" y="0"/>
                </a:moveTo>
                <a:lnTo>
                  <a:pt x="93506" y="0"/>
                </a:lnTo>
                <a:lnTo>
                  <a:pt x="92106" y="1400"/>
                </a:lnTo>
                <a:lnTo>
                  <a:pt x="1400" y="1400"/>
                </a:lnTo>
                <a:close/>
              </a:path>
              <a:path fill="darken" w="93506" h="21600">
                <a:moveTo>
                  <a:pt x="93506" y="0"/>
                </a:moveTo>
                <a:lnTo>
                  <a:pt x="93506" y="21600"/>
                </a:lnTo>
                <a:lnTo>
                  <a:pt x="92106" y="20200"/>
                </a:lnTo>
                <a:lnTo>
                  <a:pt x="92106" y="1400"/>
                </a:lnTo>
                <a:close/>
              </a:path>
              <a:path fill="darkenLess" w="93506" h="21600">
                <a:moveTo>
                  <a:pt x="93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06" y="20200"/>
                </a:lnTo>
                <a:close/>
              </a:path>
              <a:path fill="lighten" w="93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americ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038480"/>
            <a:ext cx="2970000" cy="685800"/>
          </a:xfrm>
          <a:custGeom>
            <a:avLst/>
            <a:gdLst>
              <a:gd name="textAreaLeft" fmla="*/ 44280 w 2970000"/>
              <a:gd name="textAreaRight" fmla="*/ 2925720 w 2970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3506" h="21600">
                <a:moveTo>
                  <a:pt x="0" y="0"/>
                </a:moveTo>
                <a:lnTo>
                  <a:pt x="93506" y="0"/>
                </a:lnTo>
                <a:lnTo>
                  <a:pt x="93506" y="21600"/>
                </a:lnTo>
                <a:lnTo>
                  <a:pt x="0" y="21600"/>
                </a:lnTo>
                <a:close/>
              </a:path>
              <a:path fill="lightenLess" w="93506" h="21600">
                <a:moveTo>
                  <a:pt x="0" y="0"/>
                </a:moveTo>
                <a:lnTo>
                  <a:pt x="93506" y="0"/>
                </a:lnTo>
                <a:lnTo>
                  <a:pt x="92106" y="1400"/>
                </a:lnTo>
                <a:lnTo>
                  <a:pt x="1400" y="1400"/>
                </a:lnTo>
                <a:close/>
              </a:path>
              <a:path fill="darken" w="93506" h="21600">
                <a:moveTo>
                  <a:pt x="93506" y="0"/>
                </a:moveTo>
                <a:lnTo>
                  <a:pt x="93506" y="21600"/>
                </a:lnTo>
                <a:lnTo>
                  <a:pt x="92106" y="20200"/>
                </a:lnTo>
                <a:lnTo>
                  <a:pt x="92106" y="1400"/>
                </a:lnTo>
                <a:close/>
              </a:path>
              <a:path fill="darkenLess" w="93506" h="21600">
                <a:moveTo>
                  <a:pt x="93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06" y="20200"/>
                </a:lnTo>
                <a:close/>
              </a:path>
              <a:path fill="lighten" w="93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franc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257800"/>
            <a:ext cx="2971800" cy="685800"/>
          </a:xfrm>
          <a:custGeom>
            <a:avLst/>
            <a:gdLst>
              <a:gd name="textAreaLeft" fmla="*/ 44280 w 2971800"/>
              <a:gd name="textAreaRight" fmla="*/ 2927520 w 2971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3562" h="21600">
                <a:moveTo>
                  <a:pt x="0" y="0"/>
                </a:moveTo>
                <a:lnTo>
                  <a:pt x="93562" y="0"/>
                </a:lnTo>
                <a:lnTo>
                  <a:pt x="93562" y="21600"/>
                </a:lnTo>
                <a:lnTo>
                  <a:pt x="0" y="21600"/>
                </a:lnTo>
                <a:close/>
              </a:path>
              <a:path fill="lightenLess" w="93562" h="21600">
                <a:moveTo>
                  <a:pt x="0" y="0"/>
                </a:moveTo>
                <a:lnTo>
                  <a:pt x="93562" y="0"/>
                </a:lnTo>
                <a:lnTo>
                  <a:pt x="92162" y="1400"/>
                </a:lnTo>
                <a:lnTo>
                  <a:pt x="1400" y="1400"/>
                </a:lnTo>
                <a:close/>
              </a:path>
              <a:path fill="darken" w="93562" h="21600">
                <a:moveTo>
                  <a:pt x="93562" y="0"/>
                </a:moveTo>
                <a:lnTo>
                  <a:pt x="93562" y="21600"/>
                </a:lnTo>
                <a:lnTo>
                  <a:pt x="92162" y="20200"/>
                </a:lnTo>
                <a:lnTo>
                  <a:pt x="92162" y="1400"/>
                </a:lnTo>
                <a:close/>
              </a:path>
              <a:path fill="darkenLess" w="93562" h="21600">
                <a:moveTo>
                  <a:pt x="935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62" y="20200"/>
                </a:lnTo>
                <a:close/>
              </a:path>
              <a:path fill="lighten" w="935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árabes y los ro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1160" y="3051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1160" y="4114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981080"/>
            <a:ext cx="53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s árabes y los roman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7560" y="5410080"/>
            <a:ext cx="9291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993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click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 cada foto para escuchar como se pronuncia la tapa.  Repite la palabra para practicar la pronunci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1447560" cy="1752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378468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u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1582920" cy="1676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14400" y="609588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bóndi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76720" y="1905120"/>
            <a:ext cx="1600200" cy="119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352680" y="3581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am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352680" y="4343400"/>
            <a:ext cx="1752840" cy="131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6095880"/>
            <a:ext cx="19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aladil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477120" y="1981080"/>
            <a:ext cx="160020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95520" y="3479760"/>
            <a:ext cx="22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rtilla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553080" y="4343400"/>
            <a:ext cx="160020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476040" y="601992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atas al ali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6002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3581280" y="2057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106668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3505320" y="4495680"/>
            <a:ext cx="533160" cy="266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6629400" y="4495680"/>
            <a:ext cx="304920" cy="152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65530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81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19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48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27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2125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299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21:18:42Z</dcterms:created>
  <dc:creator>emauro</dc:creator>
  <dc:description/>
  <dc:language>en-US</dc:language>
  <cp:lastModifiedBy>Home User</cp:lastModifiedBy>
  <dcterms:modified xsi:type="dcterms:W3CDTF">2007-06-21T21:42:25Z</dcterms:modified>
  <cp:revision>22</cp:revision>
  <dc:subject/>
  <dc:title>Table of Contents</dc:title>
</cp:coreProperties>
</file>